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Md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8C2F-49EE-4D5C-ABDE-326841AC9CAC}"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12C2-009F-4799-80CB-A1E20F16A76C}"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0" name="PlaceHolder 1"/>
          <p:cNvSpPr>
            <a:spLocks noGrp="1"/>
          </p:cNvSpPr>
          <p:nvPr>
            <p:ph type="sldImg"/>
          </p:nvPr>
        </p:nvSpPr>
        <p:spPr>
          <a:xfrm>
            <a:off x="2066760" y="324000"/>
            <a:ext cx="2941920" cy="2206440"/>
          </a:xfrm>
          <a:prstGeom prst="rect">
            <a:avLst/>
          </a:prstGeom>
          <a:ln w="0">
            <a:noFill/>
          </a:ln>
        </p:spPr>
      </p:sp>
      <p:sp>
        <p:nvSpPr>
          <p:cNvPr id="131"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ien una vez observó que los doce discípulos eran “hombres comunes y corrientes, capacitados por Dios que lograron cosas extraordinarias”. Todos creemos que esto fue verdad. Sin embargo, la Biblia también está llena de mujeres llenas del espíritu, de mujeres fortalecidas por Dios, de mujeres que tuvieron éxito en sus realizaciones, de igual grandeza que muchos de los líderes quienes fueron elogiados por sus buenas obras y habilidades de liderazgo. Y lo que esas mujeres hicieron fue aún más milagroso, porque ellas comenzaron con un estatus muy por debajo incluso de los “hombres comunes y corrient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A594-8297-475C-8A2B-4F76B10755E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6" name="PlaceHolder 1"/>
          <p:cNvSpPr>
            <a:spLocks noGrp="1"/>
          </p:cNvSpPr>
          <p:nvPr>
            <p:ph type="body"/>
          </p:nvPr>
        </p:nvSpPr>
        <p:spPr>
          <a:xfrm>
            <a:off x="685800" y="394920"/>
            <a:ext cx="5486400" cy="806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día de Pentecostés, cuando la iglesia del Nuevo Testamento nació, las mujeres estaban allí con los principales discípulos, orando (Hechos 1:12-14). Algunas mujeres eran renombradas por sus buenos hechos y otras por su comprensión de la sana doctrina y su talento espiritual (Hechos 18:26; 21: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egunda epístola de Juan trata de una prominente mujer en una de las iglesias que estaba bajo su cuidado. Incluso Pablo, quién algunas veces se le entiende mal y se le acusa de ser un machista, ministró regularmente con las mujeres (Filipenses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695C-2823-4B18-9416-63BB6AE3F27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8" name="PlaceHolder 1"/>
          <p:cNvSpPr>
            <a:spLocks noGrp="1"/>
          </p:cNvSpPr>
          <p:nvPr>
            <p:ph type="sldImg"/>
          </p:nvPr>
        </p:nvSpPr>
        <p:spPr>
          <a:xfrm>
            <a:off x="2004840" y="468360"/>
            <a:ext cx="2846520" cy="2135160"/>
          </a:xfrm>
          <a:prstGeom prst="rect">
            <a:avLst/>
          </a:prstGeom>
          <a:ln w="0">
            <a:noFill/>
          </a:ln>
        </p:spPr>
      </p:sp>
      <p:sp>
        <p:nvSpPr>
          <p:cNvPr id="15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taba en cambio, que cuando la iglesia cristiana creció y el evangelio dio su fruto, uno de los resultados visibles del cristianismo fue una tendencia hacia la modestia en el vestir y un realce correspondiente del estatus de las mujeres. También registró que comúnmente los hombres paganos se quejaban, que “desde que su esposa se hizo cristiana, ella vestía atuendos más pobres”. Obviamente, los hombres paganos percibían, que el cristianismo consideraba a la mujer, como algo más que un símbolo sexual, o un pedazo de propiedad ba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ramente, estas primeras mujeres cristianas elevaron la virtud femenina a una altura tan sin precedentes, que incluso los paganos la reconocían. Crisóstomo, un predicador elocuente del siglo IV, registró que uno de sus profesores, un filósofo pagano llamado Libanius, una vez dijo, “¡Qué mujeres tienen ustedes los cristian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Constantino se convirtiera en el año 312 D.C., se le concedió al cristianismo el estatus legal en Roma y pronto llegó a ser la religión dominante en el Imperio. Uno de los primeros resultados fue un nuevo estatus legal para las mujeres. Roma aprobó las leyes que reconocían el derecho de propiedad de las mujeres. La legislación del gobierno sobre el matrimonio fue revisada de manera que fuera vista legalmente como una sociedad. Y a través de la historia, cuando examinamos de cerca, vemos que esta ha sido la tendencia que siguió a la difusión del cristianism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AE19-FEF5-48A5-8E57-F446DF735566}"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1" name="PlaceHolder 1"/>
          <p:cNvSpPr>
            <a:spLocks noGrp="1"/>
          </p:cNvSpPr>
          <p:nvPr>
            <p:ph type="sldImg"/>
          </p:nvPr>
        </p:nvSpPr>
        <p:spPr>
          <a:xfrm>
            <a:off x="1959120" y="395280"/>
            <a:ext cx="2939760" cy="2206800"/>
          </a:xfrm>
          <a:prstGeom prst="rect">
            <a:avLst/>
          </a:prstGeom>
          <a:ln w="0">
            <a:noFill/>
          </a:ln>
        </p:spPr>
      </p:sp>
      <p:sp>
        <p:nvSpPr>
          <p:cNvPr id="162" name="PlaceHolder 2"/>
          <p:cNvSpPr>
            <a:spLocks noGrp="1"/>
          </p:cNvSpPr>
          <p:nvPr>
            <p:ph type="body"/>
          </p:nvPr>
        </p:nvSpPr>
        <p:spPr>
          <a:xfrm>
            <a:off x="685800" y="270000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5056-2E99-46A6-A877-D4AB5017B76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4" name="PlaceHolder 1"/>
          <p:cNvSpPr>
            <a:spLocks noGrp="1"/>
          </p:cNvSpPr>
          <p:nvPr>
            <p:ph type="sldImg"/>
          </p:nvPr>
        </p:nvSpPr>
        <p:spPr>
          <a:xfrm>
            <a:off x="2070000" y="395280"/>
            <a:ext cx="2845080" cy="2135160"/>
          </a:xfrm>
          <a:prstGeom prst="rect">
            <a:avLst/>
          </a:prstGeom>
          <a:ln w="0">
            <a:noFill/>
          </a:ln>
        </p:spPr>
      </p:sp>
      <p:sp>
        <p:nvSpPr>
          <p:cNvPr id="16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s bíblicos en el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hora miremos algunos ejemplos bíblicos de Mujeres en el Liderazg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43B5-F433-4FC6-A621-53F25416A8D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7" name="PlaceHolder 1"/>
          <p:cNvSpPr>
            <a:spLocks noGrp="1"/>
          </p:cNvSpPr>
          <p:nvPr>
            <p:ph type="sldImg"/>
          </p:nvPr>
        </p:nvSpPr>
        <p:spPr>
          <a:xfrm>
            <a:off x="2112840" y="179280"/>
            <a:ext cx="2560680" cy="1920960"/>
          </a:xfrm>
          <a:prstGeom prst="rect">
            <a:avLst/>
          </a:prstGeom>
          <a:ln w="0">
            <a:noFill/>
          </a:ln>
        </p:spPr>
      </p:sp>
      <p:sp>
        <p:nvSpPr>
          <p:cNvPr id="168" name="PlaceHolder 2"/>
          <p:cNvSpPr>
            <a:spLocks noGrp="1"/>
          </p:cNvSpPr>
          <p:nvPr>
            <p:ph type="body"/>
          </p:nvPr>
        </p:nvSpPr>
        <p:spPr>
          <a:xfrm>
            <a:off x="685800" y="2123640"/>
            <a:ext cx="569592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La Historia de Débora </a:t>
            </a:r>
            <a:r>
              <a:rPr b="0" lang="es-ES" sz="1200" spc="-1" strike="noStrike">
                <a:solidFill>
                  <a:srgbClr val="000000"/>
                </a:solidFill>
                <a:latin typeface="Garamond"/>
              </a:rPr>
              <a:t>(Juec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ricó estuvo en ruinas por 200 años. Los israelitas se habían extendido por todo el país como un enjambre de langostas, tomando casi todo lo que había a su paso, pero de alguna manera los indígenas habían logrado sobrevivir y como malezas bien arraigadas, su idolatría aún se propagó hasta llegar a estrangular la fe de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hab y Josué solo quedaron en la memoria, y los esclavos israelitas que habían sido guerreros, otra vez fueron oprimidos. Durante veinte años fueron cruelmente dominados por Jabín, rey de Canaán. Su jefe general era Sísara. Sísara tenía novecientos carros de hierro cromado, con razón aterrorizó al pueblo de Israel. Esto es el equivalente de novecientos tanques del ejército de hoy. Sísara probablemente se sentía muy satisfecho y seguro, ya que Israel estaba ahora dirigido por una mujer, Déb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era una profetisa que habitaba debajo de una palmera llamada, la palmera de Débora. La ventaja de novecientos tanques enormes contra una pequeña mujer sentada bajo una palmera, parecía que ya estaba casi todo decid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que vivía a varias millas al noroeste de Jericó, era una juez que gobernaba en todo Israel. El pueblo de Israel iba a ella para solucionar sus controversias. Era una líder que se había negado a perder la fe, a pesar de las tristes circunstancias que la rodea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día, ella llamó a Barac, un judío del norte, y le dijo claramente: “El Señor, Dios de Israel te ordena: ‘Ve, toma contigo diez mil hombres de Zabulón y Neftalí y ábrete camino hacia el Monte Tabor. Entonces atraeré a Sísara, el comandante del ejército de Jabín con sus carros y su ejército y te lo entregaré en tus 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cualquier otro hombre en Israel, Barac estaba aterrorizado de Sísara y se negó a obedecer sus órdenes, salvo con una condición – que ella lo acompañara.  “Muy bien”, respondió Débora, “Iré contigo, mas no será tu honra en el camino que vas; porque en mano de mujer el Señor entregará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ta estipulación y profecía, Débora fue con Barac. Sísara mientras tanto, se enteró de la trama y condujo a sus tropas y carros por el lecho de un río seco – Wadi Kishon, decidido a aplastar este levantamiento. Pero su fuerza se volvió contra él cuando el Señor envió lluvia y dilató el valle inundándolo con mareas. De repente, los novecientos carros llegaron a ser una enorme desventaja pues se quedaban atascados en el barro, un blanco fácil para las tropas de Barac, que arrasaban desde el monte Tabor, matando a todos, excepto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 es la historia del liderazgo de Débora. La Biblia describe a Débora como una “profetisa,  esposa de Lapidot”, pero cuando Débora se describía, ella no usó términos como profeta o juez, general o líder. Ella se describía como “una madre en Israel” (Jueces 5: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6B91-FA49-4FFE-A022-9BEFEA5BE40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0" name="PlaceHolder 1"/>
          <p:cNvSpPr>
            <a:spLocks noGrp="1"/>
          </p:cNvSpPr>
          <p:nvPr>
            <p:ph type="sldImg"/>
          </p:nvPr>
        </p:nvSpPr>
        <p:spPr>
          <a:xfrm>
            <a:off x="1887480" y="420840"/>
            <a:ext cx="3227400" cy="2422440"/>
          </a:xfrm>
          <a:prstGeom prst="rect">
            <a:avLst/>
          </a:prstGeom>
          <a:ln w="0">
            <a:noFill/>
          </a:ln>
        </p:spPr>
      </p:sp>
      <p:sp>
        <p:nvSpPr>
          <p:cNvPr id="171"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uál crees que era el promedio de vida de las familias en Israel durante los 20 años de opresión por parte de Jabí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Qué piensas que Débora quiso decir cuando dijo: </a:t>
            </a:r>
            <a:r>
              <a:rPr b="0" i="1" lang="es-ES" sz="1200" spc="-1" strike="noStrike">
                <a:solidFill>
                  <a:srgbClr val="000000"/>
                </a:solidFill>
                <a:latin typeface="Arial"/>
              </a:rPr>
              <a:t>“Las aldeas habían cesado en Israel, habían decaído; hasta que yo Débora me levanté, me levanté madre de Israel”? </a:t>
            </a:r>
            <a:r>
              <a:rPr b="0" lang="es-ES" sz="1200" spc="-1" strike="noStrike">
                <a:solidFill>
                  <a:srgbClr val="000000"/>
                </a:solidFill>
                <a:latin typeface="Arial"/>
              </a:rPr>
              <a:t>(Jueces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uál crees que pudo haber sido la reacción personal de Sísara? ¿Podría haber sido como la de Débora? ¿Cómo la de Bara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F491-017E-4487-9F46-F1E59D4B1B1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3" name="PlaceHolder 1"/>
          <p:cNvSpPr>
            <a:spLocks noGrp="1"/>
          </p:cNvSpPr>
          <p:nvPr>
            <p:ph type="sldImg"/>
          </p:nvPr>
        </p:nvSpPr>
        <p:spPr>
          <a:xfrm>
            <a:off x="1982880" y="395280"/>
            <a:ext cx="2747880" cy="2062080"/>
          </a:xfrm>
          <a:prstGeom prst="rect">
            <a:avLst/>
          </a:prstGeom>
          <a:ln w="0">
            <a:noFill/>
          </a:ln>
        </p:spPr>
      </p:sp>
      <p:sp>
        <p:nvSpPr>
          <p:cNvPr id="174"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uál era el miedo de Barac? ¿Por qué no quería ir sin Déb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ómo crees que los hombres israelitas sintieron su honor debido a las victorias conseguidas por Débora y Ja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uando una mujer en la iglesia de hoy es más brillante que un hombre, ¿cuáles son algunas reacciones de los miembros de igles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1E16-B1B9-44A5-87E5-8530B009DEC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6" name="PlaceHolder 1"/>
          <p:cNvSpPr>
            <a:spLocks noGrp="1"/>
          </p:cNvSpPr>
          <p:nvPr>
            <p:ph type="sldImg"/>
          </p:nvPr>
        </p:nvSpPr>
        <p:spPr>
          <a:xfrm>
            <a:off x="1900080" y="395280"/>
            <a:ext cx="2751120" cy="2063880"/>
          </a:xfrm>
          <a:prstGeom prst="rect">
            <a:avLst/>
          </a:prstGeom>
          <a:ln w="0">
            <a:noFill/>
          </a:ln>
        </p:spPr>
      </p:sp>
      <p:sp>
        <p:nvSpPr>
          <p:cNvPr id="17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 historia de Hulda – (2 Reyes 22:14-20; 2 Crónicas 34:14-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y Josías ordenó a Safán  (secretario del rey) que cuente el dinero y lo distribuya a los capataces que trabajaban en el templo, para que ellos se arreglen con sus trabajadores. Cuando Safán se presentó para recoger los fondos, Hilcías, el sumo sacerdote, le dijo que había descubierto el libro de Dios olvidado por mucho tiempo y que estaba oculto en el templo. Safán leyó el libro y fue a Josías y le dijo sobre el libro y lo que decía. Cuando Josías escuchó las profecías terribles del libro, se angustió y dijo a cinco de sus asesores más cercanos “id al templo y hablad con el Señor por mí y por todo el resto de Israel y Judá” para saber lo que debían hacer. Curiosamente, en vez de seguir las instrucciones del rey, los asesores inmediatamente fueron a la profetisa Hulda. Ella leyó las palabras y probablemente se angustió por tener que decir a los asesores esas predicciones terribles, pero creo que su voz era firme. Tal vez las terribles amenazas hacían que sus ojos se abrieran mucho más de lo normal. Recordaba cómo los profetas fueron asesinados, mientras que los adivinos y brujos eran honrados. Pensó en los reyes que se inclinaban ante las estrellas y cómo las personas seguían su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ulda es una de las cuatro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ulda seguramente conocía los detalles sórdidos del pasado. Ella quizás soportó parte de los 55 años del reinado de Manasés, que fueron los más largos y peores que cualquier rey de Judá. Sin duda, ella fue alentada por las recientes reformas del rey Josías. Sin embargo, 35 años después de las profecías de Hulda, Judá fue llevado en cadenas a Babilonia, y todas sus ciudades fueron destru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les dijo a los asesores que desde que Josías estaba tomando ese destino tan serio, si continuaba siguiendo la dirección del Señor, él podía morir tranquilo y ser enterrado en paz. Es muy triste saber que finalmente Josías no escuchó a Dios, y de hecho fue muerto en una batalla con el rey de Egip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sesores llevaron el mensaje de Hulda a Josías y él empezó con la limpieza de la casa, y todos los sitios paganos fueron quemados – santuarios de religión y sexo, altares de adoración de ídolos y el altar de Moloc (a quién el pueblo le sacrificaba sus hijos e hijas). ¡Cuán bajo, increíblemente, el pueblo de Israel había caí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0422-4109-4476-BF43-C4D8C0D4487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9" name="PlaceHolder 1"/>
          <p:cNvSpPr>
            <a:spLocks noGrp="1"/>
          </p:cNvSpPr>
          <p:nvPr>
            <p:ph type="sldImg"/>
          </p:nvPr>
        </p:nvSpPr>
        <p:spPr>
          <a:xfrm>
            <a:off x="1789200" y="395280"/>
            <a:ext cx="3038400" cy="2279520"/>
          </a:xfrm>
          <a:prstGeom prst="rect">
            <a:avLst/>
          </a:prstGeom>
          <a:ln w="0">
            <a:noFill/>
          </a:ln>
        </p:spPr>
      </p:sp>
      <p:sp>
        <p:nvSpPr>
          <p:cNvPr id="180"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ulda fue una profetisa fiel durante el tiempo de la infidelidad nacional, ¿Cómo crees que las mujeres piadosas de hoy pueden ayudar a fortalecer nuestra iglesia y modelar fide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1FF9-6C0A-4188-8B36-36A8115A19A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2" name="PlaceHolder 1"/>
          <p:cNvSpPr>
            <a:spLocks noGrp="1"/>
          </p:cNvSpPr>
          <p:nvPr>
            <p:ph type="sldImg"/>
          </p:nvPr>
        </p:nvSpPr>
        <p:spPr>
          <a:xfrm>
            <a:off x="1841400" y="250920"/>
            <a:ext cx="2940120" cy="2206440"/>
          </a:xfrm>
          <a:prstGeom prst="rect">
            <a:avLst/>
          </a:prstGeom>
          <a:ln w="0">
            <a:noFill/>
          </a:ln>
        </p:spPr>
      </p:sp>
      <p:sp>
        <p:nvSpPr>
          <p:cNvPr id="183" name="PlaceHolder 2"/>
          <p:cNvSpPr>
            <a:spLocks noGrp="1"/>
          </p:cNvSpPr>
          <p:nvPr>
            <p:ph type="body"/>
          </p:nvPr>
        </p:nvSpPr>
        <p:spPr>
          <a:xfrm>
            <a:off x="685440" y="2555640"/>
            <a:ext cx="5838840" cy="5902200"/>
          </a:xfrm>
          <a:prstGeom prst="rect">
            <a:avLst/>
          </a:prstGeom>
          <a:noFill/>
          <a:ln w="0">
            <a:noFill/>
          </a:ln>
        </p:spPr>
        <p:txBody>
          <a:bodyPr anchor="t">
            <a:noAutofit/>
          </a:bodyPr>
          <a:p>
            <a:pPr marL="228600" indent="-228600" algn="just">
              <a:lnSpc>
                <a:spcPct val="110000"/>
              </a:lnSpc>
              <a:spcBef>
                <a:spcPts val="451"/>
              </a:spcBef>
              <a:buClr>
                <a:srgbClr val="000000"/>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La historia de María – (Éxodo 2:1-10; 15:20-21; Números 21:1-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apenas una niña cuando tuvo que ocultar a su hermanito Moisés entre los juncos del río Nilo para salvarle la vida. A pesar de ser muy joven ella llevó a cabo perfectamente el plan de Dios para preservar la vida de Moisés para cumplir la comisión de un gran liderazgo. Siendo joven mostró cualidades excepcionales de obediencia y servidumbre a Dios que son los requisitos previos del lideraz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hijos de Israel estuvieron finalmente a salvo, fuera de Egipto, fue María quien dirigió a las mujeres israelitas en alabanza a Dios por la derrota milagrosa de los egipcios en el Mar Rojo. </a:t>
            </a:r>
            <a:r>
              <a:rPr b="0" i="1" lang="es-ES" sz="1200" spc="-1" strike="noStrike">
                <a:solidFill>
                  <a:srgbClr val="000000"/>
                </a:solidFill>
                <a:latin typeface="Arial"/>
              </a:rPr>
              <a:t>“Y María la profetisa, hermana de Aarón, tomó un pandero en su mano, y todas las mujeres salieron en pos de ella con panderos y danzas”</a:t>
            </a:r>
            <a:r>
              <a:rPr b="0" lang="es-ES" sz="1200" spc="-1" strike="noStrike">
                <a:solidFill>
                  <a:srgbClr val="000000"/>
                </a:solidFill>
                <a:latin typeface="Arial"/>
              </a:rPr>
              <a:t> (Éxodo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fuerte y Dios la llenó de liderazgo. Esto fue hasta que decidió criticar a Moisés o específicamente, criticar a su esposa. María y Aarón criticaron a Moisés porque se había casado con una mujer etíope. Probablemente, el pecado de María fue un pecado de orgullo. Ella pensaba que era mejor que la esposa de Moisés. Después de todo, ¿Qué esta esposa, que era una extranjera, conocía de todo el sufrimiento de los largos años en Egipto? María había sufrido la crueldad y la discriminación en manos de los capataces del Faraón. Había presenciado el sufrimiento diario de su familia y la miseria de su pueblo. ¿Qué sabía esta mujer extranjera sobre el sufrimiento o el dolor? Ella había vivido una vida de privilegio en la finca de su padre rico. Ella no tenía idea de lo que había sido la vida para aquellos que crecen en la miseria de la esclavit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escuchó las críticas y de inmediato ordenó a los tres – Moisés, Aarón y María, a que salieran del tabernáculo. Entonces el Señor descendió en una nube y se detuvo a la entrada. Él les dijo que tenía una relación muy especial con Moisés y estaba enojado con los otros dos por criticarlo. Cuando el Señor se apartó, hirió a María con lep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744C-059D-4EBC-8E30-F81097F9D3D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Corintios </a:t>
            </a:r>
            <a:r>
              <a:rPr b="1" lang="en-US" sz="1200" spc="-1" strike="noStrike">
                <a:solidFill>
                  <a:srgbClr val="000000"/>
                </a:solidFill>
                <a:latin typeface="Garamond"/>
              </a:rPr>
              <a:t>1:27-29 dic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0" i="1" lang="es-ES" sz="1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FAD7-EBD8-4AB3-A017-F8F9CA6E95C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5" name="PlaceHolder 1"/>
          <p:cNvSpPr>
            <a:spLocks noGrp="1"/>
          </p:cNvSpPr>
          <p:nvPr>
            <p:ph type="sldImg"/>
          </p:nvPr>
        </p:nvSpPr>
        <p:spPr>
          <a:xfrm>
            <a:off x="2152800" y="395280"/>
            <a:ext cx="2751120" cy="2063880"/>
          </a:xfrm>
          <a:prstGeom prst="rect">
            <a:avLst/>
          </a:prstGeom>
          <a:ln w="0">
            <a:noFill/>
          </a:ln>
        </p:spPr>
      </p:sp>
      <p:sp>
        <p:nvSpPr>
          <p:cNvPr id="186"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2874-E7F8-4712-9951-DDEBD1F5739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8" name="PlaceHolder 1"/>
          <p:cNvSpPr>
            <a:spLocks noGrp="1"/>
          </p:cNvSpPr>
          <p:nvPr>
            <p:ph type="sldImg"/>
          </p:nvPr>
        </p:nvSpPr>
        <p:spPr>
          <a:xfrm>
            <a:off x="2070000" y="755640"/>
            <a:ext cx="2845080" cy="2135160"/>
          </a:xfrm>
          <a:prstGeom prst="rect">
            <a:avLst/>
          </a:prstGeom>
          <a:ln w="0">
            <a:noFill/>
          </a:ln>
        </p:spPr>
      </p:sp>
      <p:sp>
        <p:nvSpPr>
          <p:cNvPr id="189"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or qué crees que solamente María recibió el castigo y no Aarón? ¿Tal vez ella era la cabecilla de esta crític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E72A-73D7-43F7-A4D6-095C241F4EF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1" name="PlaceHolder 1"/>
          <p:cNvSpPr>
            <a:spLocks noGrp="1"/>
          </p:cNvSpPr>
          <p:nvPr>
            <p:ph type="sldImg"/>
          </p:nvPr>
        </p:nvSpPr>
        <p:spPr>
          <a:xfrm>
            <a:off x="1924200" y="324000"/>
            <a:ext cx="2846160" cy="2135160"/>
          </a:xfrm>
          <a:prstGeom prst="rect">
            <a:avLst/>
          </a:prstGeom>
          <a:ln w="0">
            <a:noFill/>
          </a:ln>
        </p:spPr>
      </p:sp>
      <p:sp>
        <p:nvSpPr>
          <p:cNvPr id="192" name="PlaceHolder 2"/>
          <p:cNvSpPr>
            <a:spLocks noGrp="1"/>
          </p:cNvSpPr>
          <p:nvPr>
            <p:ph type="body"/>
          </p:nvPr>
        </p:nvSpPr>
        <p:spPr>
          <a:xfrm>
            <a:off x="685800" y="2484360"/>
            <a:ext cx="5486400" cy="5973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uáles son algunas lecciones que podemos aprender de la experiencia de María sobre juzgar a otros, especialmente a los líderes y/o sus cónyu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EB70-26ED-4AAB-B67C-07CEA5F7F57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4" name="PlaceHolder 1"/>
          <p:cNvSpPr>
            <a:spLocks noGrp="1"/>
          </p:cNvSpPr>
          <p:nvPr>
            <p:ph type="sldImg"/>
          </p:nvPr>
        </p:nvSpPr>
        <p:spPr>
          <a:xfrm>
            <a:off x="2295360" y="324000"/>
            <a:ext cx="2556000" cy="1917720"/>
          </a:xfrm>
          <a:prstGeom prst="rect">
            <a:avLst/>
          </a:prstGeom>
          <a:ln w="0">
            <a:noFill/>
          </a:ln>
        </p:spPr>
      </p:sp>
      <p:sp>
        <p:nvSpPr>
          <p:cNvPr id="195" name="PlaceHolder 2"/>
          <p:cNvSpPr>
            <a:spLocks noGrp="1"/>
          </p:cNvSpPr>
          <p:nvPr>
            <p:ph type="body"/>
          </p:nvPr>
        </p:nvSpPr>
        <p:spPr>
          <a:xfrm>
            <a:off x="685440" y="2339640"/>
            <a:ext cx="5767560" cy="63356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Garamond"/>
              </a:rPr>
              <a:t>La historia de Mical (I Sam. 18:20-29; 19:11-17; II Sam. 6:16-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al estaba enamorada de David, un bien parecido rey. Su padre Saúl estaba complacido y  planeaba utilizar este amor de su hija por David, para su propio beneficio. Así que la dejó casarse con él, luego trató de usarla como una trampa, con la esperanza de que ella finalmente traicionara a David por la lealtad a su padre. Y parece que David, de origen humilde, estaba encantado de tener a una princesa como su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mencionan varias veces cuanto Mical amaba a David. David había sido el músico que tocaba el arpa a su padre. Tal vez el romance se inició a través de su música. Después David derrotó a Goliat con sólo una honda y una piedra, no sólo Mical se enamoró de él, sino todo Israel. Fue por amor a ella que David había matado a doscientos filisteos. Fue considerado un esposo adecuado para una prin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ellos se casaron, Mical salvó la vida de David cuando su padre intentó matarlo. Usando su imaginación y creatividad ella lo ayudó a escapar por una ventana y luego rellenó su cama y simuló que estaba enfer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Mical había salvado su vida, David no regresó por ella. Su separación se hizo muy larga. Tal vez ella creía que David encontraría una forma para protegerla de la ira de su padre, y se decepcionó cuando el tiempo pasó y no había señal de su príncipe az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decepción se convirtió en amargura cuando David no regresó por ella. Se sentía traicionada y probablemente horrorizada, y sus sueños quedaron totalmente destrozados cuando su padre la castigó por su lealtad a David, obligándola a casarse con Palti, a quien ella no amaba. Después de un tiempo, ella finalmente construyó una relación con su nuevo esposo, quién la amaba, pero entonces su hermano se presentó y por la fuerza se la llevó.  La Biblia dice que Palti la siguió llorando hasta Bahurim. Pero cuando Abner insistió a que volviera a su casa, se volvió (2 Samuel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había sido utilizada por su amado David, para vengarse de Saúl, casándose con ella, no por amor, sino como un trof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ólo habían pasado nueve años, desde el tiempo cuando ella ayudó a David a escapar por la ventana, y ahora ella está de nuevo en la ventana, esta vez observando a David con su resent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escena de la primera ventana ella era considerada como la hija de Saúl, en la escena de la segunda ventana, es la esposa de David. Las Escrituras dicen que ella hablaba a él con disgusto. El silencio se extendió probablemente como hielo condensado en un frío invierno entre David y Mical. Esta reina líder terminó sus días sola, sin hijos y sin familia para agradarl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4EA3-5637-4834-BC78-0639885EAB3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7" name="PlaceHolder 1"/>
          <p:cNvSpPr>
            <a:spLocks noGrp="1"/>
          </p:cNvSpPr>
          <p:nvPr>
            <p:ph type="sldImg"/>
          </p:nvPr>
        </p:nvSpPr>
        <p:spPr>
          <a:xfrm>
            <a:off x="2098800" y="324000"/>
            <a:ext cx="2877840" cy="21603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ical, por su primogenitura, nació con las credenciales para el liderazgo. ¿Crees que el liderazgo es más difícil cuando es “esperado” debido a quiénes somos?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decepción por alguien a quien amaba, comenzó en Mical a través del desengaño, la desconfianza y la desesperación. Mical esperaba que David regresara y la salvara de Saúl, así como ella lo había salvado de las manos de Saúl. ¿Cómo pueden las mujeres líderes de hoy dejar de mirar a otras personas como sus salvadores? ¿Cuáles son algunos procedimientos que las mujeres líderes pueden hacer frente a aquellos que las defrauda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0639-2A33-44CA-8E3B-4ADC570E18D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0" name="PlaceHolder 1"/>
          <p:cNvSpPr>
            <a:spLocks noGrp="1"/>
          </p:cNvSpPr>
          <p:nvPr>
            <p:ph type="sldImg"/>
          </p:nvPr>
        </p:nvSpPr>
        <p:spPr>
          <a:xfrm>
            <a:off x="1962000" y="611280"/>
            <a:ext cx="2845080" cy="2135160"/>
          </a:xfrm>
          <a:prstGeom prst="rect">
            <a:avLst/>
          </a:prstGeom>
          <a:ln w="0">
            <a:noFill/>
          </a:ln>
        </p:spPr>
      </p:sp>
      <p:sp>
        <p:nvSpPr>
          <p:cNvPr id="201" name="PlaceHolder 2"/>
          <p:cNvSpPr>
            <a:spLocks noGrp="1"/>
          </p:cNvSpPr>
          <p:nvPr>
            <p:ph type="body"/>
          </p:nvPr>
        </p:nvSpPr>
        <p:spPr>
          <a:xfrm>
            <a:off x="685800" y="2842920"/>
            <a:ext cx="5486400" cy="561492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4D6F-4878-45CA-8E90-B77003D459A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3" name="PlaceHolder 1"/>
          <p:cNvSpPr>
            <a:spLocks noGrp="1"/>
          </p:cNvSpPr>
          <p:nvPr>
            <p:ph type="sldImg"/>
          </p:nvPr>
        </p:nvSpPr>
        <p:spPr>
          <a:xfrm>
            <a:off x="2341440" y="395280"/>
            <a:ext cx="2463840" cy="1847880"/>
          </a:xfrm>
          <a:prstGeom prst="rect">
            <a:avLst/>
          </a:prstGeom>
          <a:ln w="0">
            <a:noFill/>
          </a:ln>
        </p:spPr>
      </p:sp>
      <p:sp>
        <p:nvSpPr>
          <p:cNvPr id="204" name="PlaceHolder 2"/>
          <p:cNvSpPr>
            <a:spLocks noGrp="1"/>
          </p:cNvSpPr>
          <p:nvPr>
            <p:ph type="body"/>
          </p:nvPr>
        </p:nvSpPr>
        <p:spPr>
          <a:xfrm>
            <a:off x="685800" y="2410920"/>
            <a:ext cx="5695920" cy="6046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5. </a:t>
            </a:r>
            <a:r>
              <a:rPr b="1" lang="es-ES" sz="1200" spc="-1" strike="noStrike">
                <a:solidFill>
                  <a:srgbClr val="000000"/>
                </a:solidFill>
                <a:latin typeface="Garamond"/>
              </a:rPr>
              <a:t>La historia de Priscila (Hechos 18-19; Rom. 16:3-4; I Cor. 16:19; II Tim.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Claudio expulsó a los judíos de Roma en el año 49 DC, porque estaba cansado de sus constantes disputas sobre Cristo, Priscila y Aquila se trasladaron a Cor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into era un centro de intercambio comercial famoso por su apetito de la maldad, no era un lugar para fomentar la fe de un nuevo creyente. Sin embargo allí fue donde Dios trasladó a Priscila y su esposo Aqu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oximadamente un año más tarde, Pablo llegó a Corinto. Él probablemente se reunió con la pareja por su negocio en común – la de fabricar tiendas. Priscila y Aquila invitaron a Pablo a permanecer en su casa y trabajar con ellos. Pablo predicaba el evangelio y lograba manejar tanto la fe como la oposición. Dieciocho meses más tarde, los líderes judíos de Corinto lo arrastraron ante el concilio. Cuando se retiraron los cargos, Pablo rápidamente, desplegó las velas y navegó para Éfeso, llevando a Priscila y Aquil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trabajó con Priscila y Aquila por tres años antes que los dejara como líderes de la iglesia de Éfeso. Un día Apolos, un judío nativo de Alejandría, llegó y comenzó a predicar con elocuencia acerca de Jesús. Pero él realmente entendía sólo algunas bases poco profundas del Evangelio. En vez de denunciarlo por su presentación inadecuada, Priscila y Aquila lo llevaron aparte y lo instruyeron. Ellos hicieron su trabajo tan bien, que los creyentes en Éfeso finalmente enviaron a Apolos a Corinto donde avanzó 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sea el caso, el papel de Priscila en la instrucción de Apolos y dirección de la iglesia primitiva es notable. Junto con Aquila, ella fue la mejor amiga que Pablo podía haber tenido, le ayudó a establecer la iglesia y arriesgó su vida por su ca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enciona el valor de la pareja en una de sus cartas, pero no elabora detalles sobre las circunstancias. Ella ayudó a establecer la primera iglesia en medio de un ambiente de gran hostilidad, arriesgando su propia vida por la causa del evangelio que ella amab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2100-ED52-4B9A-9633-429BA88830B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6" name="PlaceHolder 1"/>
          <p:cNvSpPr>
            <a:spLocks noGrp="1"/>
          </p:cNvSpPr>
          <p:nvPr>
            <p:ph type="sldImg"/>
          </p:nvPr>
        </p:nvSpPr>
        <p:spPr>
          <a:xfrm>
            <a:off x="2211480" y="324000"/>
            <a:ext cx="2560680" cy="1919160"/>
          </a:xfrm>
          <a:prstGeom prst="rect">
            <a:avLst/>
          </a:prstGeom>
          <a:ln w="0">
            <a:noFill/>
          </a:ln>
        </p:spPr>
      </p:sp>
      <p:sp>
        <p:nvSpPr>
          <p:cNvPr id="207"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riscila y Aquila juntos, dejaron Corinto y fueron con Pablo para Éfeso. ¿Cómo piensas que podría ser la dinámica, cuando las parejas son igualmente líderes? ¿Qué ventajas y desventajas vez cuando un líder permanece detrás ganándose la vida, mientras el otro líder se moviliza só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B0DD-D8AB-4D7B-81FA-0FFBDA70585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9" name="PlaceHolder 1"/>
          <p:cNvSpPr>
            <a:spLocks noGrp="1"/>
          </p:cNvSpPr>
          <p:nvPr>
            <p:ph type="sldImg"/>
          </p:nvPr>
        </p:nvSpPr>
        <p:spPr>
          <a:xfrm>
            <a:off x="2128680" y="395280"/>
            <a:ext cx="2654280" cy="1990800"/>
          </a:xfrm>
          <a:prstGeom prst="rect">
            <a:avLst/>
          </a:prstGeom>
          <a:ln w="0">
            <a:noFill/>
          </a:ln>
        </p:spPr>
      </p:sp>
      <p:sp>
        <p:nvSpPr>
          <p:cNvPr id="210" name="PlaceHolder 2"/>
          <p:cNvSpPr>
            <a:spLocks noGrp="1"/>
          </p:cNvSpPr>
          <p:nvPr>
            <p:ph type="body"/>
          </p:nvPr>
        </p:nvSpPr>
        <p:spPr>
          <a:xfrm>
            <a:off x="685800" y="2484360"/>
            <a:ext cx="5486400" cy="5470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vez que los nombres de Aquila y Priscila se mencionan en las Escrituras, ellos aparecen juntos. ¿Piensas que Priscila puede haber sido considerada una líder de iglesia y del ministerio igual que Aquila, ante los ojos de Pablo?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ablo dice en Romanos, que Priscila y Aquila arriesgaron sus vidas por él. ¿Cómo sientes que afecta la lealtad y el apoyo a la iglesia, cuando se valora y convalida la función del liderazgo de las mujer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A588-BBDE-4258-9AB2-8B2D94A066A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12" name="PlaceHolder 1"/>
          <p:cNvSpPr>
            <a:spLocks noGrp="1"/>
          </p:cNvSpPr>
          <p:nvPr>
            <p:ph type="sldImg"/>
          </p:nvPr>
        </p:nvSpPr>
        <p:spPr>
          <a:xfrm>
            <a:off x="2070000" y="468360"/>
            <a:ext cx="2845080" cy="2135160"/>
          </a:xfrm>
          <a:prstGeom prst="rect">
            <a:avLst/>
          </a:prstGeom>
          <a:ln w="0">
            <a:noFill/>
          </a:ln>
        </p:spPr>
      </p:sp>
      <p:sp>
        <p:nvSpPr>
          <p:cNvPr id="21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s pocas historias de mujeres líderes de los tiempos bíblicos, podemos aprender lecciones valiosas para animarnos e instruirnos hoy. Estas mujeres mostraron coraje, talento, habilidad y fuerza espiritual. Dios llamó a ellas como llama a las mujeres de hoy, para ofrecer sus dones de liderazgo al servicio de su gl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5815-3BF4-42E7-88E9-A7AADD6A6A5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6" name="PlaceHolder 1"/>
          <p:cNvSpPr>
            <a:spLocks noGrp="1"/>
          </p:cNvSpPr>
          <p:nvPr>
            <p:ph type="sldImg"/>
          </p:nvPr>
        </p:nvSpPr>
        <p:spPr>
          <a:xfrm>
            <a:off x="1989000" y="468360"/>
            <a:ext cx="2845080" cy="2135160"/>
          </a:xfrm>
          <a:prstGeom prst="rect">
            <a:avLst/>
          </a:prstGeom>
          <a:ln w="0">
            <a:noFill/>
          </a:ln>
        </p:spPr>
      </p:sp>
      <p:sp>
        <p:nvSpPr>
          <p:cNvPr id="137"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destacadas en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to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esprec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sin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más, esas mujeres aparecerán probablemente como comunes. Muchas de ellas eran sorprendentemente de la clase más baja, al igual que los discípulos que eran considerados hombres comunes y corrien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EA64-E00C-4E91-BEBC-B75CE32B844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9" name="PlaceHolder 1"/>
          <p:cNvSpPr>
            <a:spLocks noGrp="1"/>
          </p:cNvSpPr>
          <p:nvPr>
            <p:ph type="sldImg"/>
          </p:nvPr>
        </p:nvSpPr>
        <p:spPr>
          <a:xfrm>
            <a:off x="1984320" y="826920"/>
            <a:ext cx="2654280" cy="1990800"/>
          </a:xfrm>
          <a:prstGeom prst="rect">
            <a:avLst/>
          </a:prstGeom>
          <a:ln w="0">
            <a:noFill/>
          </a:ln>
        </p:spPr>
      </p:sp>
      <p:sp>
        <p:nvSpPr>
          <p:cNvPr id="140" name="PlaceHolder 2"/>
          <p:cNvSpPr>
            <a:spLocks noGrp="1"/>
          </p:cNvSpPr>
          <p:nvPr>
            <p:ph type="body"/>
          </p:nvPr>
        </p:nvSpPr>
        <p:spPr>
          <a:xfrm>
            <a:off x="685800" y="2846160"/>
            <a:ext cx="5486400" cy="5686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56A9-B329-4FF9-B32A-E9611ED8390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2" name="PlaceHolder 1"/>
          <p:cNvSpPr>
            <a:spLocks noGrp="1"/>
          </p:cNvSpPr>
          <p:nvPr>
            <p:ph type="sldImg"/>
          </p:nvPr>
        </p:nvSpPr>
        <p:spPr>
          <a:xfrm>
            <a:off x="2060640" y="611280"/>
            <a:ext cx="2847960" cy="2135160"/>
          </a:xfrm>
          <a:prstGeom prst="rect">
            <a:avLst/>
          </a:prstGeom>
          <a:ln w="0">
            <a:noFill/>
          </a:ln>
        </p:spPr>
      </p:sp>
      <p:sp>
        <p:nvSpPr>
          <p:cNvPr id="14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Ana, una viuda poco conocida de edad avanzada quién aparece solamente en una breve escena en Lucas, capítulo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Rahab que era una prostituta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alidad, la única verdadera excepción es Eva, ella comenzó la vida con algunas ventajas sobre las otras mujeres. Ella fue creada perfecta y extraordinaria en todo sentido. Fue echa por la mano de Dios para ser el ideal puro e inmaculado de la feminidad. Ella caminó y habló personalmente con Dios. También llegó a ser un ejemplo vivo de lo que Dios puede recuperar y rescatar a cualquiera de nosotros que cae, y puede hacer de cada uno de nosotros trofeos extraordinarios para su gracia, a pesar de nuestros frac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D43E-D3F4-401A-AE09-F3F2C959ADE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5" name="PlaceHolder 1"/>
          <p:cNvSpPr>
            <a:spLocks noGrp="1"/>
          </p:cNvSpPr>
          <p:nvPr>
            <p:ph type="sldImg"/>
          </p:nvPr>
        </p:nvSpPr>
        <p:spPr>
          <a:xfrm>
            <a:off x="2163600" y="324000"/>
            <a:ext cx="2459160" cy="1846080"/>
          </a:xfrm>
          <a:prstGeom prst="rect">
            <a:avLst/>
          </a:prstGeom>
          <a:ln w="0">
            <a:noFill/>
          </a:ln>
        </p:spPr>
      </p:sp>
      <p:sp>
        <p:nvSpPr>
          <p:cNvPr id="146" name="PlaceHolder 2"/>
          <p:cNvSpPr>
            <a:spLocks noGrp="1"/>
          </p:cNvSpPr>
          <p:nvPr>
            <p:ph type="body"/>
          </p:nvPr>
        </p:nvSpPr>
        <p:spPr>
          <a:xfrm>
            <a:off x="685800" y="2195640"/>
            <a:ext cx="5486400" cy="62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mujeres bíblicas líderes, nos recuerdan tanto nuestra caída como nuestro potencial. Una de las características únicas de la Biblia es la forma como exalta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 notado que en vez de degradar o menospreciar a las mujeres, con frecuencia parece que las Escrituras rinde homenaje a ellas? Las Sagradas Escrituras ennoblece sus roles en la sociedad y la familia. La Biblia fielmente reconoce la importancia de su influencia. En el primer capítulo de la Biblia se nos enseña que tanto las mujeres como los hombres, llevan el sello de la propia imagen de Dios. Las esposas son vistas como socias y compañeras queridas de sus esposos y no como simples esclavas o piezas de mue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fueron dados los Diez Mandamientos, Dios ordenó a los niños a que honraran tanto a su padre como a su madre. Hoy, en nuestra cultura, esto parece no muy usual; y sólo lo pensamos como algo sensible y bueno. Sin embargo, esto fue un concepto revolucionario en una era, cuando la mayoría de las culturas paganas eran dominadas por los hombres. Estos hombres paganos gobernaron sus hogares con puño de hierro y durante ese tiempo las mujeres eran generalmente vistas como criaturas inf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fueron realmente muy revolucionarias y con una visión futurista al separar a las mujeres para una honra especial (1 Pedro 3:7). Las Escrituras ordenan a los esposos a que amen a sus esposas con sacrificio, así como Cristo ama a la iglesia, aún si fuera necesario, con el costo de sus propias vidas (Efesios 5:25-3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3C3E-F340-43AA-BB31-E074488B84C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8" name="PlaceHolder 1"/>
          <p:cNvSpPr>
            <a:spLocks noGrp="1"/>
          </p:cNvSpPr>
          <p:nvPr>
            <p:ph type="body"/>
          </p:nvPr>
        </p:nvSpPr>
        <p:spPr>
          <a:xfrm>
            <a:off x="685800" y="755640"/>
            <a:ext cx="5486400" cy="770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la hermana de Moisés y Aarón, era una profetiza y compositora, y en Miqueas 6:4 Dios  honra su derecho al lado de sus hermanos, como uno de los tres líderes de la nación durante el éx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mbién una profetiza, fue una juez en Israel antes de la monarquía. Cuando Salomón (el hombre más sabio que alguna vez vivió) llegó a ser rey, él públicamente rindió homenaje a esta madre, poniéndose de pie cuando ella entró ante su presencia y se inclinó ante ella antes de sentarse en su trono, (1 Reyes 2: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88D0-F23F-421D-8001-08E01C387A1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0" name="PlaceHolder 1"/>
          <p:cNvSpPr>
            <a:spLocks noGrp="1"/>
          </p:cNvSpPr>
          <p:nvPr>
            <p:ph type="sldImg"/>
          </p:nvPr>
        </p:nvSpPr>
        <p:spPr>
          <a:xfrm>
            <a:off x="2100240" y="395280"/>
            <a:ext cx="2460600" cy="1846440"/>
          </a:xfrm>
          <a:prstGeom prst="rect">
            <a:avLst/>
          </a:prstGeom>
          <a:ln w="0">
            <a:noFill/>
          </a:ln>
        </p:spPr>
      </p:sp>
      <p:sp>
        <p:nvSpPr>
          <p:cNvPr id="151" name="PlaceHolder 2"/>
          <p:cNvSpPr>
            <a:spLocks noGrp="1"/>
          </p:cNvSpPr>
          <p:nvPr>
            <p:ph type="body"/>
          </p:nvPr>
        </p:nvSpPr>
        <p:spPr>
          <a:xfrm>
            <a:off x="620280" y="2339640"/>
            <a:ext cx="5767560" cy="583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s mujeres no se las obligaba a ponerse un velo, o a guardar silencio en la plaza pública, como lo hacen en muchos medios paganos – culturas orientales, incluso hasta el día de hoy. (Génesis 12:14; 24:16; 1 Samuel 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CAF1-08D0-4C7D-A5F7-06208AF4636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3" name="PlaceHolder 1"/>
          <p:cNvSpPr>
            <a:spLocks noGrp="1"/>
          </p:cNvSpPr>
          <p:nvPr>
            <p:ph type="sldImg"/>
          </p:nvPr>
        </p:nvSpPr>
        <p:spPr>
          <a:xfrm>
            <a:off x="2211480" y="250920"/>
            <a:ext cx="2560680" cy="1919160"/>
          </a:xfrm>
          <a:prstGeom prst="rect">
            <a:avLst/>
          </a:prstGeom>
          <a:ln w="0">
            <a:noFill/>
          </a:ln>
        </p:spPr>
      </p:sp>
      <p:sp>
        <p:nvSpPr>
          <p:cNvPr id="154" name="PlaceHolder 2"/>
          <p:cNvSpPr>
            <a:spLocks noGrp="1"/>
          </p:cNvSpPr>
          <p:nvPr>
            <p:ph type="body"/>
          </p:nvPr>
        </p:nvSpPr>
        <p:spPr>
          <a:xfrm>
            <a:off x="685800" y="2195640"/>
            <a:ext cx="5695920" cy="626256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trastes en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ran terratenientes en Israel (Números 27:8; Proverbios 31:16). Esto va en contra de las culturas paganas antiguas que rutinariamente degradaban y rebajaban a las mujeres. Las mujeres en las sociedades paganas durante los tiempos bíblicos eran con frecuencia tratadas un poco mejor que los ani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luso algunos de los filósofos griegos más conocidos, considerados como las mentes más brillantes de su tiempo, enseñaban que las mujeres eran criaturas inferiores por natural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an Imperio Romano, quizás en el pináculo de la civilización pre-cristiana, las mujeres eran generalmente consideradas como posesiones personales de sus esposos o padres, con un estatus un poco más elevado que los esclavo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ligión pagana aprovisionó y alentó a la degradación de la mujer aún más. La mitología griega y romana tuvo sus diosas como Diana y Afrodita, pero la adoración a estas diosas no elevaba la condición de la mujer en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forma irónica, justamente lo contrario era lo cierto. La mayoría de los templos dedicados a diosas, eran atendidos por prostitutas dedicadas, mujeres que servían como sacerdotisas que se vendían por dinero, asumiendo que realizaban cierta clase de sacramento religi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deidades paganas con sus ceremonias religiosas eran evidentemente obscenas, incluyendo ritos eróticos sobre la fertilidad, orgías ebrias en el templo, prácticas homosexuales pervertidas, y en los peores casos, aún sacrificios humanos. ¿Por qué debemos mencionar todo esto cuando tratamos el asunto de mujeres en el Liderazgo para nuestra iglesia en el siglo XXI? Porque el cristianismo nació en un mundo donde las culturas romanas y hebreas se interceptaron y este mismo cristianismo, la base de nuestra iglesia hoy, elevó el estatus de las mujeres a una altura sin prece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F40DD-BFA5-4703-9709-7330CEE0E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CA76F-020C-4431-8372-8E4E0BD1F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C74D0-9872-4381-9AC0-ABF3545DA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C0E22-24F3-402A-94DC-C26F5E96C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58AC1-6EBF-4CEE-B456-1A223273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1AA5F-34C9-4D6F-A2D3-23CEF1EFE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02B91-0FB5-45CA-BD99-3EAFA2A9D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8B549-E1B4-41FA-A3C3-858A36CBE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4C814-C96D-4B8B-AC23-2AAC39032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1FED-94D8-412B-ADC1-D9EAD797E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0063F-B354-4AE5-B683-299CB1997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8435F-F8E7-4127-8931-1BE9DAB9A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45AB-8A92-4C56-BF18-93CB7FDC0DD7}" type="slidenum">
              <a:rPr b="0" lang="en-US" sz="1400" spc="-1" strike="noStrike">
                <a:solidFill>
                  <a:srgbClr val="000000"/>
                </a:solidFill>
                <a:latin typeface="Arial"/>
              </a:rPr>
              <a:t>&lt;number&gt;</a:t>
            </a:fld>
            <a:endParaRPr b="0" lang="en-US" sz="14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5" descr="apple"/>
          <p:cNvPicPr/>
          <p:nvPr/>
        </p:nvPicPr>
        <p:blipFill>
          <a:blip r:embed="rId1"/>
          <a:stretch/>
        </p:blipFill>
        <p:spPr>
          <a:xfrm>
            <a:off x="0" y="0"/>
            <a:ext cx="9144000" cy="6858000"/>
          </a:xfrm>
          <a:prstGeom prst="rect">
            <a:avLst/>
          </a:prstGeom>
          <a:ln w="0">
            <a:noFill/>
          </a:ln>
        </p:spPr>
      </p:pic>
      <p:sp>
        <p:nvSpPr>
          <p:cNvPr id="51" name="Text Box 6"/>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Futura Md BT"/>
              </a:rPr>
              <a:t>Mujeres de la Biblia en el Liderazgo</a:t>
            </a:r>
            <a:endParaRPr b="0" lang="en-US" sz="4400" spc="-1" strike="noStrike">
              <a:solidFill>
                <a:srgbClr val="000000"/>
              </a:solidFill>
              <a:latin typeface="Futura Md BT"/>
            </a:endParaRPr>
          </a:p>
        </p:txBody>
      </p:sp>
      <p:pic>
        <p:nvPicPr>
          <p:cNvPr id="52" name="Picture 7" descr="Logo300"/>
          <p:cNvPicPr/>
          <p:nvPr/>
        </p:nvPicPr>
        <p:blipFill>
          <a:blip r:embed="rId2"/>
          <a:stretch/>
        </p:blipFill>
        <p:spPr>
          <a:xfrm>
            <a:off x="5292720" y="3963960"/>
            <a:ext cx="1008000" cy="689040"/>
          </a:xfrm>
          <a:prstGeom prst="rect">
            <a:avLst/>
          </a:prstGeom>
          <a:ln w="0">
            <a:noFill/>
          </a:ln>
        </p:spPr>
      </p:pic>
      <p:sp>
        <p:nvSpPr>
          <p:cNvPr id="53" name="Text Box 8"/>
          <p:cNvSpPr/>
          <p:nvPr/>
        </p:nvSpPr>
        <p:spPr>
          <a:xfrm>
            <a:off x="4211640" y="5386320"/>
            <a:ext cx="3403440" cy="1374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Ministerio de la Muje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Certificación de Liderazgo</a:t>
            </a:r>
            <a:r>
              <a:rPr b="0" lang="es-ES" sz="2000" spc="-1" strike="noStrike">
                <a:solidFill>
                  <a:srgbClr val="ffffff"/>
                </a:solidFill>
                <a:latin typeface="Futura Md BT"/>
              </a:rPr>
              <a:t> </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Nivel</a:t>
            </a:r>
            <a:r>
              <a:rPr b="0" lang="es-ES" sz="2000" spc="-1" strike="noStrike">
                <a:solidFill>
                  <a:srgbClr val="ffffff"/>
                </a:solidFill>
                <a:latin typeface="Futura Md BT"/>
              </a:rPr>
              <a:t> </a:t>
            </a:r>
            <a:r>
              <a:rPr b="1" lang="es-ES" sz="2400" spc="-1" strike="noStrike">
                <a:solidFill>
                  <a:srgbClr val="ffffff"/>
                </a:solidFill>
                <a:latin typeface="Futura Md BT"/>
              </a:rPr>
              <a:t>4</a:t>
            </a:r>
            <a:endParaRPr b="0" lang="en-US" sz="2400" spc="-1" strike="noStrike">
              <a:solidFill>
                <a:srgbClr val="000000"/>
              </a:solidFill>
              <a:latin typeface="Futura Md BT"/>
            </a:endParaRPr>
          </a:p>
        </p:txBody>
      </p:sp>
      <p:sp>
        <p:nvSpPr>
          <p:cNvPr id="54" name="Text Box 9"/>
          <p:cNvSpPr/>
          <p:nvPr/>
        </p:nvSpPr>
        <p:spPr>
          <a:xfrm>
            <a:off x="4927680" y="2606760"/>
            <a:ext cx="1741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0000"/>
                </a:solidFill>
                <a:latin typeface="Futura Md BT"/>
              </a:rPr>
              <a:t>Po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Futura Md BT"/>
              </a:rPr>
              <a:t>Sharon Cress</a:t>
            </a:r>
            <a:endParaRPr b="0" lang="en-US" sz="20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77" name="Picture 4" descr="apple02"/>
          <p:cNvPicPr/>
          <p:nvPr/>
        </p:nvPicPr>
        <p:blipFill>
          <a:blip r:embed="rId1"/>
          <a:stretch/>
        </p:blipFill>
        <p:spPr>
          <a:xfrm>
            <a:off x="0" y="0"/>
            <a:ext cx="9144000" cy="6858000"/>
          </a:xfrm>
          <a:prstGeom prst="rect">
            <a:avLst/>
          </a:prstGeom>
          <a:ln w="0">
            <a:noFill/>
          </a:ln>
        </p:spPr>
      </p:pic>
      <p:sp>
        <p:nvSpPr>
          <p:cNvPr id="78" name="Text Box 5"/>
          <p:cNvSpPr/>
          <p:nvPr/>
        </p:nvSpPr>
        <p:spPr>
          <a:xfrm>
            <a:off x="826920" y="1182600"/>
            <a:ext cx="763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3200" spc="-1" strike="noStrike">
              <a:solidFill>
                <a:srgbClr val="000000"/>
              </a:solidFill>
              <a:latin typeface="Futura Md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apple02"/>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836640"/>
            <a:ext cx="8229600" cy="51847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30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pple0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691920"/>
            <a:ext cx="8229600" cy="56163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pple"/>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619280" y="693360"/>
            <a:ext cx="6275520" cy="115092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99ff"/>
                </a:solidFill>
                <a:latin typeface="Futura Md BT"/>
              </a:rPr>
              <a:t>Ejemplos bíblicos en el Liderazgo</a:t>
            </a:r>
            <a:endParaRPr b="0" lang="en-US" sz="4000" spc="-1" strike="noStrike">
              <a:solidFill>
                <a:srgbClr val="000000"/>
              </a:solidFill>
              <a:latin typeface="Arial"/>
            </a:endParaRPr>
          </a:p>
        </p:txBody>
      </p:sp>
      <p:sp>
        <p:nvSpPr>
          <p:cNvPr id="85" name="Text Box 5"/>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86" name="Text Box 6"/>
          <p:cNvSpPr/>
          <p:nvPr/>
        </p:nvSpPr>
        <p:spPr>
          <a:xfrm>
            <a:off x="1959120" y="2205000"/>
            <a:ext cx="5637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hora miremos algunos ejemplos bíblicos de Mujeres en el Liderazgo.</a:t>
            </a:r>
            <a:endParaRPr b="0" lang="en-US" sz="32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apple02"/>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es-ES" sz="3600" spc="-1" strike="noStrike">
                <a:solidFill>
                  <a:srgbClr val="333399"/>
                </a:solidFill>
                <a:latin typeface="Futura Md BT"/>
              </a:rPr>
              <a:t>La historia de Débora </a:t>
            </a:r>
            <a:r>
              <a:rPr b="1" lang="es-ES" sz="2800" spc="-1" strike="noStrike">
                <a:solidFill>
                  <a:srgbClr val="333399"/>
                </a:solidFill>
                <a:latin typeface="Futura Md BT"/>
              </a:rPr>
              <a:t>(Jueces 4-5)</a:t>
            </a:r>
            <a:br>
              <a:rPr sz="3600"/>
            </a:br>
            <a:endParaRPr b="0" lang="en-US" sz="2800" spc="-1" strike="noStrike">
              <a:solidFill>
                <a:srgbClr val="000000"/>
              </a:solidFill>
              <a:latin typeface="Arial"/>
            </a:endParaRPr>
          </a:p>
        </p:txBody>
      </p:sp>
      <p:sp>
        <p:nvSpPr>
          <p:cNvPr id="89" name="PlaceHolder 2"/>
          <p:cNvSpPr>
            <a:spLocks noGrp="1"/>
          </p:cNvSpPr>
          <p:nvPr>
            <p:ph/>
          </p:nvPr>
        </p:nvSpPr>
        <p:spPr>
          <a:xfrm>
            <a:off x="898560" y="1566360"/>
            <a:ext cx="7345440" cy="452628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a:t>
            </a:r>
            <a:r>
              <a:rPr b="0" lang="es-ES" sz="3200" spc="-1" strike="noStrike">
                <a:solidFill>
                  <a:srgbClr val="000000"/>
                </a:solidFill>
                <a:latin typeface="Arial"/>
              </a:rPr>
              <a:t>Esta es la historia del liderazgo de Débora. La Biblia describe a Débora como una “profetisa,  esposa de Lapidot”, pero cuando Débora se describía, ella no usaba términos como profeta o juez, general o líder. Ella se describía como “una madre en Israel” (Jueces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apple02"/>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Preguntas para el diálogo interactivo</a:t>
            </a:r>
            <a:endParaRPr b="0" lang="en-US" sz="4000" spc="-1" strike="noStrike">
              <a:solidFill>
                <a:srgbClr val="000000"/>
              </a:solidFill>
              <a:latin typeface="Arial"/>
            </a:endParaRPr>
          </a:p>
        </p:txBody>
      </p:sp>
      <p:sp>
        <p:nvSpPr>
          <p:cNvPr id="92" name="PlaceHolder 2"/>
          <p:cNvSpPr>
            <a:spLocks noGrp="1"/>
          </p:cNvSpPr>
          <p:nvPr>
            <p:ph/>
          </p:nvPr>
        </p:nvSpPr>
        <p:spPr>
          <a:xfrm>
            <a:off x="457200" y="1557000"/>
            <a:ext cx="8229600" cy="4824360"/>
          </a:xfrm>
          <a:prstGeom prst="rect">
            <a:avLst/>
          </a:prstGeom>
          <a:noFill/>
          <a:ln w="0">
            <a:noFill/>
          </a:ln>
        </p:spPr>
        <p:txBody>
          <a:bodyPr anchor="t">
            <a:normAutofit fontScale="96000"/>
          </a:bodyPr>
          <a:p>
            <a:pPr marL="58500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a:t>
            </a:r>
            <a:r>
              <a:rPr b="0" lang="es-ES" sz="2800" spc="-1" strike="noStrike">
                <a:solidFill>
                  <a:srgbClr val="000000"/>
                </a:solidFill>
                <a:latin typeface="Arial"/>
              </a:rPr>
              <a:t>	</a:t>
            </a:r>
            <a:r>
              <a:rPr b="0" lang="es-ES" sz="2800" spc="-1" strike="noStrike">
                <a:solidFill>
                  <a:srgbClr val="000000"/>
                </a:solidFill>
                <a:latin typeface="Arial"/>
              </a:rPr>
              <a:t>¿Cuál crees que era el promedio de vida de las familias en Israel durante los 20 años de opresión por parte de Jabín?</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a:t>
            </a:r>
            <a:r>
              <a:rPr b="0" lang="es-ES" sz="2800" spc="-1" strike="noStrike">
                <a:solidFill>
                  <a:srgbClr val="000000"/>
                </a:solidFill>
                <a:latin typeface="Arial"/>
              </a:rPr>
              <a:t>	</a:t>
            </a:r>
            <a:r>
              <a:rPr b="0" lang="es-ES" sz="2800" spc="-1" strike="noStrike">
                <a:solidFill>
                  <a:srgbClr val="000000"/>
                </a:solidFill>
                <a:latin typeface="Arial"/>
              </a:rPr>
              <a:t>¿Qué piensas que Débora quiso decir cuando dijo: </a:t>
            </a:r>
            <a:r>
              <a:rPr b="0" i="1" lang="es-ES" sz="2800" spc="-1" strike="noStrike">
                <a:solidFill>
                  <a:srgbClr val="000000"/>
                </a:solidFill>
                <a:latin typeface="Arial"/>
              </a:rPr>
              <a:t>“Las aldeas habían cesado en Israel, habían decaído; hasta que yo Débora me levanté, me levanté madre de Israel”? </a:t>
            </a:r>
            <a:r>
              <a:rPr b="0" lang="es-ES" sz="2800" spc="-1" strike="noStrike">
                <a:solidFill>
                  <a:srgbClr val="000000"/>
                </a:solidFill>
                <a:latin typeface="Arial"/>
              </a:rPr>
              <a:t>(Jueces 5:7).</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uál crees que pudo haber sido la reacción personal de Sísara? ¿Podría haber sido como la de Débora? ¿Cómo la de Bar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pple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457200" y="1052280"/>
            <a:ext cx="8229600" cy="5113080"/>
          </a:xfrm>
          <a:prstGeom prst="rect">
            <a:avLst/>
          </a:prstGeom>
          <a:noFill/>
          <a:ln w="0">
            <a:noFill/>
          </a:ln>
        </p:spPr>
        <p:txBody>
          <a:bodyPr anchor="t">
            <a:normAutofit/>
          </a:bodyPr>
          <a:p>
            <a:pPr marL="609480" indent="-609480">
              <a:lnSpc>
                <a:spcPct val="8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ál era el miedo de Barac? ¿Por qué no quería ir sin Débora?</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rees que los hombres israelitas sintieron su honor debido a las victorias conseguidas por Débora y Ja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a:t>
            </a:r>
            <a:r>
              <a:rPr b="0" lang="es-ES" sz="2800" spc="-1" strike="noStrike">
                <a:solidFill>
                  <a:srgbClr val="000000"/>
                </a:solidFill>
                <a:latin typeface="Arial"/>
              </a:rPr>
              <a:t>	</a:t>
            </a:r>
            <a:r>
              <a:rPr b="0" lang="es-ES" sz="3200" spc="-1" strike="noStrike">
                <a:solidFill>
                  <a:srgbClr val="000000"/>
                </a:solidFill>
                <a:latin typeface="Arial"/>
              </a:rPr>
              <a:t>Cuando una mujer en la iglesia de hoy es más brillante que un hombre, ¿cuáles son algunas reacciones de los miembros de igl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pple0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es-ES" sz="3600" spc="-1" strike="noStrike">
                <a:solidFill>
                  <a:srgbClr val="333399"/>
                </a:solidFill>
                <a:latin typeface="Futura Md BT"/>
              </a:rPr>
              <a:t>La historia de Hulda</a:t>
            </a:r>
            <a:br>
              <a:rPr sz="4000"/>
            </a:br>
            <a:r>
              <a:rPr b="1" lang="es-ES" sz="2400" spc="-1" strike="noStrike">
                <a:solidFill>
                  <a:srgbClr val="333399"/>
                </a:solidFill>
                <a:latin typeface="Futura Md BT"/>
              </a:rPr>
              <a:t>(II Reyes 22:14-20; II Crónicas 34:14-33</a:t>
            </a:r>
            <a:r>
              <a:rPr b="1" lang="en-US" sz="2400" spc="-1" strike="noStrike">
                <a:solidFill>
                  <a:srgbClr val="333399"/>
                </a:solidFill>
                <a:latin typeface="Futura Md BT"/>
              </a:rPr>
              <a:t>)</a:t>
            </a:r>
            <a:endParaRPr b="0" lang="en-US" sz="2400" spc="-1" strike="noStrike">
              <a:solidFill>
                <a:srgbClr val="000000"/>
              </a:solidFill>
              <a:latin typeface="Arial"/>
            </a:endParaRPr>
          </a:p>
        </p:txBody>
      </p:sp>
      <p:sp>
        <p:nvSpPr>
          <p:cNvPr id="97" name="PlaceHolder 2"/>
          <p:cNvSpPr>
            <a:spLocks noGrp="1"/>
          </p:cNvSpPr>
          <p:nvPr>
            <p:ph/>
          </p:nvPr>
        </p:nvSpPr>
        <p:spPr>
          <a:xfrm>
            <a:off x="519120" y="1916280"/>
            <a:ext cx="822960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ulda es una de las cuatro únicas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apple0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0" name="PlaceHolder 2"/>
          <p:cNvSpPr>
            <a:spLocks noGrp="1"/>
          </p:cNvSpPr>
          <p:nvPr>
            <p:ph/>
          </p:nvPr>
        </p:nvSpPr>
        <p:spPr>
          <a:xfrm>
            <a:off x="360360" y="1197000"/>
            <a:ext cx="8532720" cy="54007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0" lang="es-ES" sz="2400" spc="-1" strike="noStrike">
                <a:solidFill>
                  <a:srgbClr val="000000"/>
                </a:solidFill>
                <a:latin typeface="Arial"/>
              </a:rPr>
              <a:t>	</a:t>
            </a:r>
            <a:r>
              <a:rPr b="1" lang="es-ES" sz="2400" spc="-1" strike="noStrike">
                <a:solidFill>
                  <a:srgbClr val="000000"/>
                </a:solidFill>
                <a:latin typeface="Arial"/>
              </a:rPr>
              <a:t>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Hulda fue una profetisa fiel durante el tiempo de la infidelidad nacional, ¿Cómo crees que las mujeres piadosas de hoy pueden ayudar a fortalecer nuestra iglesia y modelar fidelidad?</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pple02"/>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es-ES" sz="4000" spc="-1" strike="noStrike">
                <a:solidFill>
                  <a:srgbClr val="333399"/>
                </a:solidFill>
                <a:latin typeface="Futura Md BT"/>
              </a:rPr>
              <a:t>La historia de María</a:t>
            </a:r>
            <a:br>
              <a:rPr sz="4000"/>
            </a:br>
            <a:r>
              <a:rPr b="1" lang="es-ES" sz="2800" spc="-1" strike="noStrike">
                <a:solidFill>
                  <a:srgbClr val="333399"/>
                </a:solidFill>
                <a:latin typeface="Futura Md BT"/>
              </a:rPr>
              <a:t>(Ex. 2:1-10; 15:20-21; Núm. 21:1-15</a:t>
            </a:r>
            <a:r>
              <a:rPr b="1" lang="en-US" sz="2800" spc="-1" strike="noStrike">
                <a:solidFill>
                  <a:srgbClr val="333399"/>
                </a:solidFill>
                <a:latin typeface="Futura Md BT"/>
              </a:rPr>
              <a:t>)</a:t>
            </a:r>
            <a:endParaRPr b="0" lang="en-US" sz="2800" spc="-1" strike="noStrike">
              <a:solidFill>
                <a:srgbClr val="000000"/>
              </a:solidFill>
              <a:latin typeface="Arial"/>
            </a:endParaRPr>
          </a:p>
        </p:txBody>
      </p:sp>
      <p:sp>
        <p:nvSpPr>
          <p:cNvPr id="103" name="PlaceHolder 2"/>
          <p:cNvSpPr>
            <a:spLocks noGrp="1"/>
          </p:cNvSpPr>
          <p:nvPr>
            <p:ph/>
          </p:nvPr>
        </p:nvSpPr>
        <p:spPr>
          <a:xfrm>
            <a:off x="468000" y="1844640"/>
            <a:ext cx="828036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apple02"/>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280"/>
            <a:ext cx="8229600" cy="5256360"/>
          </a:xfrm>
          <a:prstGeom prst="rect">
            <a:avLst/>
          </a:prstGeom>
          <a:noFill/>
          <a:ln w="0">
            <a:noFill/>
          </a:ln>
        </p:spPr>
        <p:txBody>
          <a:bodyPr anchor="t">
            <a:normAutofit/>
          </a:bodyPr>
          <a:p>
            <a:pPr marL="343080" indent="-343080" algn="ctr">
              <a:lnSpc>
                <a:spcPct val="13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Franklin Gothic Book"/>
              </a:rPr>
              <a:t>I Corintios 1:27-29 dice, </a:t>
            </a:r>
            <a:r>
              <a:rPr b="1" i="1" lang="es-ES" sz="3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apple02"/>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6" name="PlaceHolder 2"/>
          <p:cNvSpPr>
            <a:spLocks noGrp="1"/>
          </p:cNvSpPr>
          <p:nvPr>
            <p:ph/>
          </p:nvPr>
        </p:nvSpPr>
        <p:spPr>
          <a:xfrm>
            <a:off x="395280" y="1125360"/>
            <a:ext cx="8352000" cy="532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apple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980640"/>
            <a:ext cx="8229600" cy="5040360"/>
          </a:xfrm>
          <a:prstGeom prst="rect">
            <a:avLst/>
          </a:prstGeom>
          <a:noFill/>
          <a:ln w="0">
            <a:noFill/>
          </a:ln>
        </p:spPr>
        <p:txBody>
          <a:bodyPr anchor="t">
            <a:normAutofit/>
          </a:bodyPr>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r>
              <a:rPr b="1" lang="es-ES" sz="2400" spc="-1" strike="noStrike">
                <a:solidFill>
                  <a:srgbClr val="000000"/>
                </a:solidFill>
                <a:latin typeface="Arial"/>
              </a:rPr>
              <a:t>	</a:t>
            </a:r>
            <a:r>
              <a:rPr b="1" lang="es-ES" sz="2400" spc="-1" strike="noStrike">
                <a:solidFill>
                  <a:srgbClr val="000000"/>
                </a:solidFill>
                <a:latin typeface="Arial"/>
              </a:rPr>
              <a:t>¿Por qué crees que solamente María recibió el castigo y no Aarón? ¿Tal vez ella era la cabecilla de esta cr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apple02"/>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093680"/>
            <a:ext cx="8229600" cy="4856400"/>
          </a:xfrm>
          <a:prstGeom prst="rect">
            <a:avLst/>
          </a:prstGeom>
          <a:noFill/>
          <a:ln w="0">
            <a:noFill/>
          </a:ln>
        </p:spPr>
        <p:txBody>
          <a:bodyPr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es son algunas lecciones que podemos aprender de la experiencia de María sobre juzgar a otros, especialmente a los líderes y/o sus cónyug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a:t>
            </a:r>
            <a:r>
              <a:rPr b="1" lang="es-ES" sz="2400" spc="-1" strike="noStrike">
                <a:solidFill>
                  <a:srgbClr val="000000"/>
                </a:solidFill>
                <a:latin typeface="Arial"/>
              </a:rPr>
              <a:t>	</a:t>
            </a:r>
            <a:r>
              <a:rPr b="1" lang="es-ES" sz="2400" spc="-1" strike="noStrike">
                <a:solidFill>
                  <a:srgbClr val="000000"/>
                </a:solidFill>
                <a:latin typeface="Arial"/>
              </a:rPr>
              <a:t>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apple02"/>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es-ES" sz="3600" spc="-1" strike="noStrike">
                <a:solidFill>
                  <a:srgbClr val="333399"/>
                </a:solidFill>
                <a:latin typeface="Futura Md BT"/>
              </a:rPr>
              <a:t>La historia de Mical</a:t>
            </a:r>
            <a:br>
              <a:rPr sz="3600"/>
            </a:br>
            <a:r>
              <a:rPr b="1" lang="es-ES" sz="2800" spc="-1" strike="noStrike">
                <a:solidFill>
                  <a:srgbClr val="333399"/>
                </a:solidFill>
                <a:latin typeface="Futura Md BT"/>
              </a:rPr>
              <a:t>(I Sam. 18:20-29; 19:11-17; II Sam.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2143080"/>
            <a:ext cx="8229600" cy="40226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fue utilizada por su amado David, para vengarse de Saúl, casándose con ella, no por amor, sino como un trof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apple0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16" name="PlaceHolder 2"/>
          <p:cNvSpPr>
            <a:spLocks noGrp="1"/>
          </p:cNvSpPr>
          <p:nvPr>
            <p:ph/>
          </p:nvPr>
        </p:nvSpPr>
        <p:spPr>
          <a:xfrm>
            <a:off x="395280" y="1268280"/>
            <a:ext cx="8424720" cy="51134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000000"/>
                </a:solidFill>
                <a:latin typeface="Arial"/>
              </a:rPr>
              <a:t>	</a:t>
            </a:r>
            <a:r>
              <a:rPr b="1" lang="es-ES" sz="2400" spc="-1" strike="noStrike">
                <a:solidFill>
                  <a:srgbClr val="000000"/>
                </a:solidFill>
                <a:latin typeface="Arial"/>
              </a:rPr>
              <a:t>Mical, por su primogenitura, nació con las credenciales para el liderazgo. ¿Crees que el liderazgo es más difícil cuando se tiene que “esperar” debido a quiénes somos? ¿Por qué?</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 decepción por alguien a quien amaba, comenzó en Mical a través del desengaño, la desconfianza y la desesperación. Mical esperaba que David regresara y la salvara de Saúl, así como ella lo había salvado de las manos de su padre. ¿Cómo pueden las mujeres líderes de hoy dejar de mirar a otras personas como sus salvadores? ¿Cuáles son algunos procedimientos que las mujeres líderes pueden hacer frente a aquellos que las defraud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apple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57200" y="1413000"/>
            <a:ext cx="8229600" cy="403200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apple02"/>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es-ES" sz="3600" spc="-1" strike="noStrike">
                <a:solidFill>
                  <a:srgbClr val="333399"/>
                </a:solidFill>
                <a:latin typeface="Futura Md BT"/>
              </a:rPr>
              <a:t>La historia de Priscila</a:t>
            </a:r>
            <a:br>
              <a:rPr sz="4000"/>
            </a:br>
            <a:r>
              <a:rPr b="1" lang="es-ES" sz="2400" spc="-1" strike="noStrike">
                <a:solidFill>
                  <a:srgbClr val="333399"/>
                </a:solidFill>
                <a:latin typeface="Futura Md BT"/>
              </a:rPr>
              <a:t>(Hech. 18-19; Rom. 16:3-4; I Cor. 16:19; II Tim. 4:19)</a:t>
            </a:r>
            <a:endParaRPr b="0" lang="en-US" sz="2400" spc="-1" strike="noStrike">
              <a:solidFill>
                <a:srgbClr val="000000"/>
              </a:solidFill>
              <a:latin typeface="Arial"/>
            </a:endParaRPr>
          </a:p>
        </p:txBody>
      </p:sp>
      <p:sp>
        <p:nvSpPr>
          <p:cNvPr id="121" name="PlaceHolder 2"/>
          <p:cNvSpPr>
            <a:spLocks noGrp="1"/>
          </p:cNvSpPr>
          <p:nvPr>
            <p:ph/>
          </p:nvPr>
        </p:nvSpPr>
        <p:spPr>
          <a:xfrm>
            <a:off x="395280" y="1557000"/>
            <a:ext cx="8229600" cy="482436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apple02"/>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Futura Md BT"/>
              </a:rPr>
              <a:t>Preguntas para el diálogo interactivo</a:t>
            </a:r>
            <a:endParaRPr b="0" lang="en-US" sz="3200" spc="-1" strike="noStrike">
              <a:solidFill>
                <a:srgbClr val="000000"/>
              </a:solidFill>
              <a:latin typeface="Arial"/>
            </a:endParaRPr>
          </a:p>
        </p:txBody>
      </p:sp>
      <p:sp>
        <p:nvSpPr>
          <p:cNvPr id="124" name="PlaceHolder 2"/>
          <p:cNvSpPr>
            <a:spLocks noGrp="1"/>
          </p:cNvSpPr>
          <p:nvPr>
            <p:ph/>
          </p:nvPr>
        </p:nvSpPr>
        <p:spPr>
          <a:xfrm>
            <a:off x="395280" y="1196640"/>
            <a:ext cx="8137440" cy="53276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scila y Aquila juntos, dejaron Corinto y se fueron con Pablo para Éfeso. ¿Cómo piensas que podría ser la dinámica, cuando las parejas son igualmente líderes? ¿Qué ventajas y desventajas vez cuando un líder permanece detrás ganándose la vida, mientras el otro líder se moviliza sólo?</a:t>
            </a:r>
            <a:endParaRPr b="0" lang="en-US" sz="24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pple0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57200" y="1052280"/>
            <a:ext cx="8075520" cy="5113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ada vez que los nombres de Aquila y Priscila se mencionan en las Escrituras, ellos aparecen juntos. ¿Piensas que Priscila puede haber sido considerada una líder de iglesia y del ministerio igual que Aquila, ante los ojos de Pablo? ¿Por qué?</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a:t>
            </a:r>
            <a:r>
              <a:rPr b="0" lang="es-ES" sz="2800" spc="-1" strike="noStrike">
                <a:solidFill>
                  <a:srgbClr val="000000"/>
                </a:solidFill>
                <a:latin typeface="Arial"/>
              </a:rPr>
              <a:t>	</a:t>
            </a:r>
            <a:r>
              <a:rPr b="0" lang="es-ES" sz="2800" spc="-1" strike="noStrike">
                <a:solidFill>
                  <a:srgbClr val="000000"/>
                </a:solidFill>
                <a:latin typeface="Arial"/>
              </a:rPr>
              <a:t>Pablo dice en Romanos, que Priscila y Aquila arriesgaron sus vidas por él. ¿Cómo sientes que afecta la lealtad y el apoyo a la iglesia, cuando se valora y convalida la función del liderazgo de las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apple02"/>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95280" y="1484280"/>
            <a:ext cx="8424720" cy="396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pple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95280" y="9950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Mujeres destacadas en la Biblia</a:t>
            </a:r>
            <a:r>
              <a:rPr b="0" lang="es-ES" sz="4000" spc="-1" strike="noStrike">
                <a:solidFill>
                  <a:srgbClr val="333399"/>
                </a:solidFill>
                <a:latin typeface="Futura Md BT"/>
              </a:rPr>
              <a:t> </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6840" y="1484280"/>
            <a:ext cx="8435880" cy="46418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tonta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débi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despreciab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sin va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pple0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179280" y="1424160"/>
            <a:ext cx="8507520" cy="4525920"/>
          </a:xfrm>
          <a:prstGeom prst="rect">
            <a:avLst/>
          </a:prstGeom>
          <a:noFill/>
          <a:ln w="0">
            <a:noFill/>
          </a:ln>
        </p:spPr>
        <p:txBody>
          <a:bodyPr anchor="t">
            <a:normAutofit/>
          </a:bodyPr>
          <a:p>
            <a:pPr marL="343080"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0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pple02"/>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Ana, una viuda poco conocida de edad avanzada quién aparece solamente en una breve escena en Lucas, capítulo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Rahab que era una prostituta comú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pple02"/>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395280" y="127944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8" name="Picture 4" descr="apple02"/>
          <p:cNvPicPr/>
          <p:nvPr/>
        </p:nvPicPr>
        <p:blipFill>
          <a:blip r:embed="rId1"/>
          <a:stretch/>
        </p:blipFill>
        <p:spPr>
          <a:xfrm>
            <a:off x="0" y="0"/>
            <a:ext cx="9144000" cy="6858000"/>
          </a:xfrm>
          <a:prstGeom prst="rect">
            <a:avLst/>
          </a:prstGeom>
          <a:ln w="0">
            <a:noFill/>
          </a:ln>
        </p:spPr>
      </p:pic>
      <p:sp>
        <p:nvSpPr>
          <p:cNvPr id="69" name="Text Box 5"/>
          <p:cNvSpPr/>
          <p:nvPr/>
        </p:nvSpPr>
        <p:spPr>
          <a:xfrm>
            <a:off x="900000" y="1341360"/>
            <a:ext cx="734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3200" spc="-1" strike="noStrike">
              <a:solidFill>
                <a:srgbClr val="000000"/>
              </a:solidFill>
              <a:latin typeface="Futura Md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apple02"/>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apple02"/>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395280" y="1062000"/>
            <a:ext cx="822960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Contrastes en la historia</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glaucia.meireles</cp:lastModifiedBy>
  <dcterms:modified xsi:type="dcterms:W3CDTF">2010-03-10T18:50:35Z</dcterms:modified>
  <cp:revision>25</cp:revision>
  <dc:subject/>
  <dc:title>Slide 1</dc:title>
</cp:coreProperties>
</file>